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8040" y="912960"/>
            <a:ext cx="62308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Restructuring the Postwar World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945–Present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2028960"/>
            <a:ext cx="645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United States and the Soviet Union vie for superiority, and both countries extend their control over other nation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73360" y="2174760"/>
            <a:ext cx="5445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reat of Nuclear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viet Union explodes its first atomic bomb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.S. and Soviet Union both develop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ful hydrogen bom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Brinkmansh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policy of willingness to go to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ge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asing tensions lead to military buildup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.S. and Sovi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81640" y="1690560"/>
            <a:ext cx="408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Cold War Divides the Wor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3360" y="480060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ld War in the Sk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57, Soviets laun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ut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irst unman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telli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960, Soviets shoot down American spy plan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ing ten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3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0160" y="4145040"/>
            <a:ext cx="670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World War II, Chinese Communists defeat Nationalist forces and two separate Chinas emerg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9520" y="238752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9520" y="2778120"/>
            <a:ext cx="73724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3399"/>
                </a:solidFill>
                <a:latin typeface="Arial"/>
                <a:ea typeface="Times New Roman"/>
              </a:rPr>
              <a:t>Communists Take Power in China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73360" y="182736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ommunists vs. Nationali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70880" y="941400"/>
            <a:ext cx="64231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Communists Take Power in China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73360" y="2403360"/>
            <a:ext cx="58640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War II in Ch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ao Zed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eads Chinese Communists again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panese inva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ang Jiesh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eader of Chinese Nationalist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ld War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ist and Communist Chinese resume civil w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WWII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5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82720" y="4457880"/>
            <a:ext cx="57373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vil War Resu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 problems cause Nationalist soldier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ert to Commun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o’s troops take control of China’s major c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949, People’s Republic of China create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ists to Taiw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71200" y="1598760"/>
            <a:ext cx="55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Two Chinas Affect the Cold War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73360" y="2174760"/>
            <a:ext cx="57211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uperpowers Re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.S. supports Nationalist state in Taiwan, call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ublic of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viets and China agree to help each other in ev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at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.S. tries to stop Soviet expansion and spread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sm in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6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82720" y="4227480"/>
            <a:ext cx="57848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ina Expands under the Commun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na takes control of Tibet and southern Mongo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a welcomes Tibetan refugees fleeing revo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ainst Chin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ina, India clash over border; fighting stops b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nsions rem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73720" y="1598760"/>
            <a:ext cx="52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Communists Transform China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3360" y="2174760"/>
            <a:ext cx="6140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sts Claim a New “Mandate of Heav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nese Communists organize national government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st Pa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73360" y="3160800"/>
            <a:ext cx="5784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o’s Brand of Marxist Soci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o takes property from landowners and divides 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ong peas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seizes private companies and pl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on incre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82720" y="4694400"/>
            <a:ext cx="5784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Great Leap Forwar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mmu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arge collective farms often suppor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 25,000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is ended after inefficiency leads to cr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ilures and fam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Policies and Mao’s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na, Soviet Union clash over leadership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st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ct socialist ideas are moderated, Mao redu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 role in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Red Gua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militia units formed to enfo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ct communism in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82720" y="1690560"/>
            <a:ext cx="43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Communists Transform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73360" y="424800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ultural R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ultural R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movement to build society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asants, wo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 Guards close schools and execute or impris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intellectu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968, Chinese army imprisons, executes,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les most Red Gua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8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369800" y="2486160"/>
            <a:ext cx="7741080" cy="1057680"/>
            <a:chOff x="1369800" y="2486160"/>
            <a:chExt cx="7741080" cy="1057680"/>
          </a:xfrm>
        </p:grpSpPr>
        <p:sp>
          <p:nvSpPr>
            <p:cNvPr id="189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69800" y="2867040"/>
              <a:ext cx="77410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Wars in Korea and Vietnam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370160" y="3519360"/>
            <a:ext cx="69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Asia, the Cold War flares into actual wars supported mainly by the superpow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73720" y="182736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War in Ko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73360" y="2403360"/>
            <a:ext cx="578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Divided 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38th parall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ine dividing Korea into North Kore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South Kore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19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70160" y="885960"/>
            <a:ext cx="521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Wars in Korea and Vietnam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73360" y="3360600"/>
            <a:ext cx="587376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off at the 38th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50, North Koreans invade South Korea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viet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th Korea requests UN assistance; 15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 tr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ouglas MacArth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eads UN forces against Nor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ore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th Koreans control most of peninsula w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Arthur attac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lf of the North’s army surrenders, the rest retr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73360" y="2174760"/>
            <a:ext cx="5445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ghting Conti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 troops push North Koreans almost to Chine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nese send 300,000 troops against UN for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apture Se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Arthur calls for nuclear attack and is remov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53, cease fire signed and border establish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38th parallel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73360" y="480528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math of the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th Korea builds collective farms, heavy industr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clear weap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uth Korea establishes democracy, grow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y with U.S. a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77680" y="1690560"/>
            <a:ext cx="225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War in Korea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1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72640" y="159876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War Breaks Out in Vietn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oad to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Ho Chi Min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Vietnamese nationalist, la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st 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2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773360" y="3122640"/>
            <a:ext cx="5873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ghting Be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54, French surrender to Vietnamese after maj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omino the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U.S. theory of Commun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ansion in Southeast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73360" y="465300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etnam—A Divided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tional peace conference agrees on a divi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et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Ngo Dinh Di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eads anti-Commun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in South Viet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Vietc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South Vietnamese Communist gueril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ghting against Di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8040" y="912960"/>
            <a:ext cx="62308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Restructuring the Postwar World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945–Present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3000" y="2502000"/>
            <a:ext cx="40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d War: Superpowers Face 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45160" y="3078000"/>
            <a:ext cx="41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sts Take Power in Ch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5520" y="359100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rs in Korea and Vietn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4440" y="4129200"/>
            <a:ext cx="38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ld War Divides the Wor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2046240" y="46735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46600" y="466236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ld War Tha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72280" y="159876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United States Gets Involved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.S. Troops Enter the F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64, U.S. sends troops to fight Viet Con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th Vietnam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.S. fights guerilla war defending increasing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popular govern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etcong gains support from Ho Chi Minh, Chin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viet 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3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773360" y="4237200"/>
            <a:ext cx="58737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United States Withdra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 grows unpopular in U.S.; in 1969, Nixon star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drawing tr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Vietnam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Nixon’s plan to withdraw U.S.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 gradu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st U.S. troops leave in 1973; South Vietn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run in 19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74440" y="159876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ostwar Southeast Asia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mbodia in Turm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Khmer Rou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Communist rebels who ta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of Cambodia in 19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slaughter 2 million people; overthrown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etnamese inva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93, Cambodia adopts democracy, hol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ions with UN he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4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773360" y="4246560"/>
            <a:ext cx="55972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etnam After the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igon renamed Ho Chi Minh City; Vietnam uni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Communist 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out 1.5 million people flee Vietnam, s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tling in U.S., 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995, United States normalizes relation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etn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370160" y="2486160"/>
            <a:ext cx="6057360" cy="1640520"/>
            <a:chOff x="1370160" y="2486160"/>
            <a:chExt cx="6057360" cy="1640520"/>
          </a:xfrm>
        </p:grpSpPr>
        <p:sp>
          <p:nvSpPr>
            <p:cNvPr id="249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70160" y="2867040"/>
              <a:ext cx="605736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Cold War Divides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World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370160" y="417204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perpowers support opposing sides in Latin American and Middle Eastern conflic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73040" y="941400"/>
            <a:ext cx="60616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Cold War Divides the Worl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73360" y="2403360"/>
            <a:ext cx="578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Than One “Worl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hird 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developing nations; often new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pendent, nonal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67960" y="182736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Fighting for the Third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73360" y="4871880"/>
            <a:ext cx="573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73360" y="337644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d War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.S., Soviet Union, China compete for infl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 Third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 revolutions and give economic, militar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 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ion of Nonaligned 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countries, like India, want to 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ment in Cold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55, Indonesia hosts Asian, African lead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ant neutr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Nonaligned n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independent countries 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Cold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82720" y="1593720"/>
            <a:ext cx="37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Fighting for the Third World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71920" y="159876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onfrontations in Latin Ame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del Castro and the Cuban R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Fidel Cast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eads revolt in Cuba again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ctator supported by 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1959, Castro in power, nationalizes econom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kes U.S. 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61, Castro defeats U.S.-trained Cub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iles at Bay of Pi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73360" y="424332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clear Face-off: the Cuban Missile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62, U.S. demands removal of Soviet missile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viets withdraw missiles; U.S. promises no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ade Cu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ban economy is left dependent on Soviet sup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8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73360" y="2174760"/>
            <a:ext cx="5445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vil War in Nicar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nastasio Somo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Nicaraguan dicta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ed by 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aniel Orteg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eads Sandinista rebels wh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ke power in Nicara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.S. and Soviet Union both initially sup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di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dinistas aid Communist rebels in El Salv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.S. helps anti-Communist Contras in Nicaragu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assist El Salv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990, Nicaragua holds first free election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dinistas lo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83440" y="1690560"/>
            <a:ext cx="408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onfrontations in Latin Amer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9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70120" y="1598760"/>
            <a:ext cx="51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onfrontations in the Middle East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igious and Secular Values Clash in I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h Reza Pahlavi embraces Weste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s, oil 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anian nationalists overthrow shah, seize Britis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il compa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.S. restores shah to power, fearing Sovi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roach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73360" y="422424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United States Supports Secular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h Reza Pahlavi westernizes Iran with U.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yatollah Ruholla Khomei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Iranian Musli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er; lives in ex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978, Khomeini sparks riots in Iran; shah fle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0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homeini’s Anti-U.S.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lamic revolutionaries hold American hostage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hran (1979–19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 radicals take control in Iran, increa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nsions with Ir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an, Iraq fight 8-year war; U.S. aids both sid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viets help Ir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84160" y="1690560"/>
            <a:ext cx="42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onfrontations in the Middle East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1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773360" y="425772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uperpowers Face Off in Afghanis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viets invade Afghanistan, help Commun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against reb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 rebels fight guerilla war against Soviet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.S. weap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stops grain shipments to Soviet Union; Sovi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draw (1989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370880" y="2486160"/>
            <a:ext cx="5961240" cy="1057680"/>
            <a:chOff x="1370880" y="2486160"/>
            <a:chExt cx="5961240" cy="1057680"/>
          </a:xfrm>
        </p:grpSpPr>
        <p:sp>
          <p:nvSpPr>
            <p:cNvPr id="318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70880" y="2867040"/>
              <a:ext cx="596124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Cold War Thaws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370160" y="355752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ld War begins to thaw as the superpowers enter an era of uneasy diplomac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370160" y="2486160"/>
            <a:ext cx="6660720" cy="1640520"/>
            <a:chOff x="1370160" y="2486160"/>
            <a:chExt cx="6660720" cy="1640520"/>
          </a:xfrm>
        </p:grpSpPr>
        <p:sp>
          <p:nvSpPr>
            <p:cNvPr id="63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0160" y="2867040"/>
              <a:ext cx="666072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Cold War: Superpowers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Face Off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381320" y="4141800"/>
            <a:ext cx="696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opposing economic and political philosophi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United States and the Soviet Union lead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competi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72280" y="182736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70880" y="941400"/>
            <a:ext cx="40320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Cold War Thaws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73360" y="2403360"/>
            <a:ext cx="5788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talinization and Rumblings of Pro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Nikita Khrushche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eader of Soviet Union af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lin dies (195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hrushchev condemns Stalin; Soviets, West c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acefully comp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tizens of Soviet-controlled governments beg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sting commu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hrushchev sends Soviet military to put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ngarian prote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71560" y="182736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Soviet Policy in Eastern Europe and China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73360" y="50007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volt in Czechoslovak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Leonid Brezhne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oviet leader af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hrushchev—represses dis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968, Warsaw Pact troops block reform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zechoslovak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31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73360" y="2174760"/>
            <a:ext cx="5445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oviet-Chinese Spl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50, Mao and Stalin sign friendship treaty, b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nsions g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nese and Soviets each want to lead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hrushchev ends economic aid and refuse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re nuclear secr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viets and Chinese fight small skirmish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ross the b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82000" y="1690560"/>
            <a:ext cx="50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Soviet Policy in Eastern Europe and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41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73360" y="159876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From Brinkmanship to Dét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nkmanship Break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nkmanship causes repeated crises; nucle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 a constant thr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ohn F. Kenne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U.S. president during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ban Missile cr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Lyndon John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president who increa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involvement in Vietn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50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5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73360" y="2174760"/>
            <a:ext cx="5445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United States Turns to Dét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etnam-era turmoil fuels desire for l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rontational poli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éte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policy of reducing Cold War tension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oid confli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Richard M. Nix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U.S. president who launch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é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étente grows out of philosophy known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polit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stic politics”—recognizes need to 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cal, flex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82360" y="169056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From Brinkmanship to Détente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73360" y="5300640"/>
            <a:ext cx="5873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xon Visits Communist Po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xon visits Communist China and Soviet Un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s SALT I Trea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A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Strategic Arms Limitation Talks—limit nucle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ap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61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73720" y="159876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Collapse of Dét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cy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xon and Gerald Ford improve relation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viets and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immy Carter has concerns about Soviet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 signs SALT I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gress will not ratify SALT II due to Sovi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asion of Afghanis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73360" y="4246560"/>
            <a:ext cx="58737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gan Takes an Anti-Communist 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Ronald Reag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nti-Communist U.S. presid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kes office in 19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ases military spending, proposes a miss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nse pro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985, new Soviet leadership allows easing of C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ar tens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72" name="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05160" y="1274760"/>
            <a:ext cx="54579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4800" y="182736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llies Become Enemie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71600" y="941400"/>
            <a:ext cx="62308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Cold War: Superpowers Face Off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73360" y="2403360"/>
            <a:ext cx="56671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alta Conference: A Postwar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February 1945, British, American, Soviet lead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 at Ya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agree to divide Germany into zone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cupation when WWII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viet leader Stalin agrees to allow free ele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aster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73360" y="4475160"/>
            <a:ext cx="58086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ion of the United 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1945, 50 nations form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United N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tional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members represented in General Assembly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 on Security Counc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ve permanent members have Secur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uncil veto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73360" y="2174760"/>
            <a:ext cx="5445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ing U.S. and Soviet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.S. and Soviets split sharply after WWII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.S. is world’s richest and most powerful count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WWI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viets recovering from high war casualti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destroyed c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79120" y="1690560"/>
            <a:ext cx="328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llies Become Enemies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73360" y="1598760"/>
            <a:ext cx="45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Eastern Europe’s Iron Curtain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73360" y="2174760"/>
            <a:ext cx="5736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viets Build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viets control Eastern European countries af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ld War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lin installs Communist governments in seve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uman urges free elections; Stalin ref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46, Stalin says capitalism and communis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not co-ex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73360" y="450360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Iron Curtain Divides East and 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y divided; East Germany Communist, W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y Democr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Iron Curt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Winston Churchill’s name for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vision of Euro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71920" y="159876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United States Tries to Contain Sovi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773360" y="2174760"/>
            <a:ext cx="607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ai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ntain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U.S. plan to stop the spread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s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82720" y="3124080"/>
            <a:ext cx="5737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ruman Doct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ruman Doctr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U.S. supports countries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ject commu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gress approves Truman’s request for ai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ce, Tur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82720" y="4648320"/>
            <a:ext cx="60231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rshall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of Western Europe lay in ruins after World War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arshall P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U.S. program of assisting Weste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an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gress approves plan after Commun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over of Czechoslovak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73360" y="2174760"/>
            <a:ext cx="5445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Berlin Airl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48, U.S., Britain, France withdraw for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West 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ir former occupation zones form one cou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viets oppose this, stop land and water traff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o West Ber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 Berlin, located in Soviet occupation zone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es sta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.S., Britain fly in supplies for 11 months until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lockade e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83800" y="1690560"/>
            <a:ext cx="467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United States Tries to Contain Sovie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0840" y="1598760"/>
            <a:ext cx="48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Cold War Divides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2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773360" y="2174760"/>
            <a:ext cx="607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ld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ld W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truggle of U.S., Soviet Union u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ns shor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82720" y="3133800"/>
            <a:ext cx="57373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erpowers Form Rival Alli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49, U.S., Canada, West European count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 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NA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North Atlantic Treaty Organiz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nsive military al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55, Soviets, Eastern European nations sig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arsaw P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l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961, Soviets build Berlin Wall to separate Ea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West Berl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4:36:17Z</dcterms:modified>
  <cp:revision>872</cp:revision>
  <dc:subject/>
  <dc:title>No Slide Title</dc:title>
</cp:coreProperties>
</file>